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1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9.wmf" ContentType="image/x-wmf"/>
  <Override PartName="/ppt/media/image3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2.jpeg" ContentType="image/jpeg"/>
  <Override PartName="/ppt/media/image60.wmf" ContentType="image/x-wmf"/>
  <Override PartName="/ppt/media/image62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2467-BAA4-4B27-B9AC-C29F694C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2CA7-21B1-49C2-83FF-A3986986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6318-2242-4216-AE37-B96ABAD3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80C9-8503-48C9-9289-97B99596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9A13-CC70-42DB-A51B-C2230BB5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2747-AC11-438F-972C-A01073A4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AFDE-D059-4782-B917-F447A2BC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7411-D7A7-41FC-94F5-27A517C1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EBFC-3AA7-474C-97F8-21520FC9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B29E-8701-430D-A0D7-FA837AE3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77F3-2DB8-485B-A8DF-E3D591B8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A2F5-B078-442D-8A17-4DC72E3D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2A8B-1FF3-46FE-A998-F8445A614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image" Target="../media/image44.wmf"/><Relationship Id="rId10" Type="http://schemas.openxmlformats.org/officeDocument/2006/relationships/image" Target="../media/image45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image" Target="../media/image51.wmf"/><Relationship Id="rId9" Type="http://schemas.openxmlformats.org/officeDocument/2006/relationships/image" Target="../media/image52.wmf"/><Relationship Id="rId10" Type="http://schemas.openxmlformats.org/officeDocument/2006/relationships/image" Target="../media/image53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7.wmf"/><Relationship Id="rId7" Type="http://schemas.openxmlformats.org/officeDocument/2006/relationships/image" Target="../media/image58.wmf"/><Relationship Id="rId8" Type="http://schemas.openxmlformats.org/officeDocument/2006/relationships/image" Target="../media/image59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image" Target="../media/image63.wmf"/><Relationship Id="rId7" Type="http://schemas.openxmlformats.org/officeDocument/2006/relationships/image" Target="../media/image64.wmf"/><Relationship Id="rId8" Type="http://schemas.openxmlformats.org/officeDocument/2006/relationships/image" Target="../media/image65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image" Target="../media/image6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8.wmf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5.wmf"/><Relationship Id="rId9" Type="http://schemas.openxmlformats.org/officeDocument/2006/relationships/image" Target="../media/image36.wmf"/><Relationship Id="rId10" Type="http://schemas.openxmlformats.org/officeDocument/2006/relationships/image" Target="../media/image37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920" y="595440"/>
            <a:ext cx="9020160" cy="5967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2D1EA102-621E-4CB6-8EAC-33A1A945D8F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52760" y="30492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Best viewed in slide show mode (F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5335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Failure to Pay Cash Call Notices Unp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15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sh Call 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1BF1D874-08A6-4816-8B07-23185EEA7C0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62080" y="995400"/>
            <a:ext cx="4154400" cy="2057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25520" y="3063960"/>
            <a:ext cx="3828960" cy="369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4651200" y="998640"/>
            <a:ext cx="4375440" cy="2052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4753080" y="3063960"/>
            <a:ext cx="4146480" cy="369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334800" y="3522600"/>
            <a:ext cx="4081680" cy="2257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425520" y="5872320"/>
            <a:ext cx="3828960" cy="442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4651200" y="3522600"/>
            <a:ext cx="4302360" cy="2208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>
            <a:off x="4751280" y="5872320"/>
            <a:ext cx="407988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15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sh Call 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B5E33708-1D3C-4C37-871A-06E144566C8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572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Yearly Analysis + Issued &amp; Withdra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93680" y="868320"/>
            <a:ext cx="4219560" cy="2381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179280" y="3281400"/>
            <a:ext cx="4248360" cy="342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4654440" y="928800"/>
            <a:ext cx="4154760" cy="2262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4643280" y="3279600"/>
            <a:ext cx="4176720" cy="370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193680" y="3733920"/>
            <a:ext cx="4219560" cy="2050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285840" y="5800680"/>
            <a:ext cx="4035240" cy="370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9"/>
          <a:stretch/>
        </p:blipFill>
        <p:spPr>
          <a:xfrm>
            <a:off x="4653000" y="3738600"/>
            <a:ext cx="4106880" cy="2044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0"/>
          <a:stretch/>
        </p:blipFill>
        <p:spPr>
          <a:xfrm>
            <a:off x="4745160" y="5800680"/>
            <a:ext cx="387504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15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sh Call 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6D02F41F-86DE-4515-91B9-588CA0BBD84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57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Re-Issued Cash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92240" y="851040"/>
            <a:ext cx="4078080" cy="2276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349200" y="3209760"/>
            <a:ext cx="3762360" cy="295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4510080" y="928800"/>
            <a:ext cx="4373640" cy="2190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4610160" y="3209760"/>
            <a:ext cx="4146480" cy="295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2419200" y="3589200"/>
            <a:ext cx="4159440" cy="2295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>
            <a:off x="2514600" y="5945040"/>
            <a:ext cx="389880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8120" y="15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sh Call 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E120B0F7-CCAD-4671-8F10-6D3CC8011B2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57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Revised Cash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89000" y="922320"/>
            <a:ext cx="4084560" cy="2060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79280" y="3067200"/>
            <a:ext cx="4176720" cy="363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4657680" y="928800"/>
            <a:ext cx="4221360" cy="2044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4643280" y="3068640"/>
            <a:ext cx="4219560" cy="360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2281320" y="3589200"/>
            <a:ext cx="4941720" cy="24861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8"/>
          <a:stretch/>
        </p:blipFill>
        <p:spPr>
          <a:xfrm>
            <a:off x="2268360" y="6093000"/>
            <a:ext cx="496764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8120" y="15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sh Call 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CFA1EF35-22C8-49F9-AD45-CF803A3F550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57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Issued Cash Calls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060560" y="1276200"/>
            <a:ext cx="6183360" cy="43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52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Security Renewals Monthly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40D9664D-F099-4786-A486-7DED118C240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611280" y="1192320"/>
            <a:ext cx="792144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28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te Paid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F0C824C7-E616-4C2B-99A5-613DA70B0E9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1079640" y="1195560"/>
            <a:ext cx="691344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8120" y="2286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99ff"/>
                </a:solidFill>
                <a:uFillTx/>
                <a:latin typeface="Times New Roman"/>
              </a:rPr>
              <a:t>Financial Institution Aggregate 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02AE3DC0-F46A-40F7-B5E3-1B5885BBDF0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763640" y="1050840"/>
            <a:ext cx="554364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8120" y="15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A1F9461B-41E8-484D-8D68-63CEB7E0ACD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914400"/>
            <a:ext cx="63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99ff"/>
                </a:solidFill>
                <a:latin typeface="Times New Roman"/>
              </a:rPr>
              <a:t>Click on each link to be taken to the page.  (in slide show view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413000"/>
            <a:ext cx="86104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age 3 -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Summary Page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age 5 -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Cash Collection St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age 7 -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Cash Call Stats - Monthly &amp; Yearly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age 8 -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Cash Call Stats - Issued &amp; Pa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age 9 -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Cash Call Stats - Failure to Pay Cash Call Not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age 10 - Cash Call Stats - Failure to Pay Cash Call Notices Unpa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age 11 - Cash Call Stats - Yearly Analysis + Issued &amp; Withdra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age 12 - Cash Call Stats - Re-issued Cash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age 13 - Cash Call Stats - Revised Cash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age 14 - Cash Call Stats - % Cash Calls Issu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age 15 - Security Renewals Monthly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age 16 – Late Paid Interest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age 17 – FI Aggregate Limi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3049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ummary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C317F401-C772-4644-896D-11FBEBBD4BF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-11160" y="777960"/>
            <a:ext cx="91677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09720" y="1400040"/>
            <a:ext cx="7324560" cy="4057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C16BB45D-0066-45E1-AD36-E9B57142F68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15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sh Collection 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168ACC98-6739-4FE7-B121-296226A1424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5840" y="1019160"/>
            <a:ext cx="4324320" cy="2081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0" y="3137040"/>
            <a:ext cx="4356000" cy="368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4729320" y="1058760"/>
            <a:ext cx="4151160" cy="2001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4730760" y="3749760"/>
            <a:ext cx="4116240" cy="2022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12600" y="3724200"/>
            <a:ext cx="4330800" cy="2144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4819680" y="3138480"/>
            <a:ext cx="3897360" cy="333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9"/>
          <a:stretch/>
        </p:blipFill>
        <p:spPr>
          <a:xfrm>
            <a:off x="108000" y="5946840"/>
            <a:ext cx="4248000" cy="333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0"/>
          <a:stretch/>
        </p:blipFill>
        <p:spPr>
          <a:xfrm>
            <a:off x="4819680" y="5872320"/>
            <a:ext cx="389736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04800" y="1319040"/>
            <a:ext cx="7934400" cy="4219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C6B74970-AA29-4DFA-9DD5-3609A68BAD7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15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sh Call 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DCB237BC-3870-4E60-AE9F-1D715479F1E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57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Monthly &amp; Yearly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4400" y="852480"/>
            <a:ext cx="4147920" cy="2054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03320" y="2921040"/>
            <a:ext cx="3932280" cy="297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730760" y="852480"/>
            <a:ext cx="4290840" cy="1984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4822920" y="2921040"/>
            <a:ext cx="4033800" cy="295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600" y="3382920"/>
            <a:ext cx="4113360" cy="2541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108000" y="6016680"/>
            <a:ext cx="3959280" cy="365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4730760" y="3386160"/>
            <a:ext cx="4290840" cy="253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0"/>
          <a:stretch/>
        </p:blipFill>
        <p:spPr>
          <a:xfrm>
            <a:off x="4822920" y="6016680"/>
            <a:ext cx="40338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5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sh Call 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71BC14D7-F8EB-4134-8E2B-A78D3594E68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57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Issued &amp; P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1160" y="922320"/>
            <a:ext cx="4368600" cy="2130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9440" y="3063960"/>
            <a:ext cx="4137120" cy="368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4583160" y="927000"/>
            <a:ext cx="4368600" cy="2121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4681440" y="3063960"/>
            <a:ext cx="4172040" cy="369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11160" y="3664080"/>
            <a:ext cx="4332240" cy="2193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8"/>
          <a:stretch/>
        </p:blipFill>
        <p:spPr>
          <a:xfrm>
            <a:off x="109440" y="6016680"/>
            <a:ext cx="4137120" cy="369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4654440" y="3666960"/>
            <a:ext cx="4303800" cy="2186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0"/>
          <a:stretch/>
        </p:blipFill>
        <p:spPr>
          <a:xfrm>
            <a:off x="4824360" y="6016680"/>
            <a:ext cx="407664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15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sh Call 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1835AA26-C707-4EDD-B518-67C3D8358BC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493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Failure to Pay Cash Call No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93680" y="996840"/>
            <a:ext cx="4363920" cy="2129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87280" y="3137040"/>
            <a:ext cx="4103640" cy="368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4654440" y="998640"/>
            <a:ext cx="4370400" cy="2124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4753080" y="3137040"/>
            <a:ext cx="4171680" cy="368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189000" y="3598920"/>
            <a:ext cx="4373640" cy="2251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289080" y="5945040"/>
            <a:ext cx="4171680" cy="368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4651200" y="3597120"/>
            <a:ext cx="4375440" cy="2254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4824360" y="5945040"/>
            <a:ext cx="40766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9:19:24Z</dcterms:created>
  <dc:creator>dm216</dc:creator>
  <dc:description/>
  <dc:language>en-US</dc:language>
  <cp:lastModifiedBy>richard.cresswell</cp:lastModifiedBy>
  <dcterms:modified xsi:type="dcterms:W3CDTF">2011-07-01T10:40:02Z</dcterms:modified>
  <cp:revision>165</cp:revision>
  <dc:subject/>
  <dc:title>PowerPoint Presentation</dc:title>
</cp:coreProperties>
</file>